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180-874A-4993-8851-3086DBF2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0265-94B7-4A3A-8A72-B3932644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768B5-4C94-4636-9B41-6B2CA936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56749-E6EE-4626-AD41-CF1FDC80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5FD15-DD0C-4B4D-BE4A-C4A1EDCA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2FB7B-4883-462C-98EE-42BDD0A3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010CB-41AE-4BA6-A1AC-6029EBE4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1A855-B440-49A8-AC79-5768DC40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BDC16-3810-42E1-8E25-5DCB600C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7BD7C-84C7-425B-815B-39E37345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67B64-7B69-46BE-AD3E-683F31C5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46224-0DB6-4CA7-A9B8-6E9BF1D8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85C-93E3-4A7E-8360-D8C08284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F3785-765C-4DB2-9721-57D4782B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E5291-A037-4D05-AF95-3A93086B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22BB8-8CEC-44D8-B3A2-E92F8DD5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5B0E1-2F43-40BE-A156-E773E8E0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BA4A7-C099-4055-9334-B9F4C0E0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E042D-4F23-46D9-9A22-DB1CBE4E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ED99F-C7CD-42AC-AC06-06CD1022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F2D41-4641-467D-AEEE-9E6FA265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8579A-4924-43C1-AE79-3AC9FD58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38563-3455-4184-98D0-C61474FF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49E0-B5DF-42F0-A02B-3B9F3C46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8F1AC-4F05-4744-AABF-8223A519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9D938-A5DC-45E8-9ED5-13B2FA67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5C84B-F434-4708-AB62-7C76CDE6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F9E66-26B8-4DC7-A5DE-3A8BCF9C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41CAE-048B-4F96-8C61-6E0E204A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4DCD1-B1D3-4374-A578-5781DB42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05238-5B49-468A-9979-32B2C22E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2D337-08CF-415A-B58D-78236189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1F536-878E-4D8D-9779-825DDADD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29B68-E20D-4F84-8F1E-E354C059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0108-4E3D-44D8-8856-DF0F7F5E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6A720-D021-454B-B81C-87B39594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051E7-5514-474A-9752-C019AA64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51E11-B881-4F18-86A9-2BBD6638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11C1E-CBEE-4F1B-8C91-BFE86FF1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7EFC2-7C92-47D1-9B2C-2AB23C18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73EFF-6391-46E1-9E89-C6F08AA6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485EE-4911-419D-82B7-F83FE034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62ADA-733F-41CB-8224-5B457B28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2B8D5-A93A-43B5-B5ED-EF4F90F5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52C87-BAFD-45A8-9DC6-DE99BB1C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C7FD-67A4-4DA0-9756-2294DEF1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E6EF1-455E-4257-837D-567F8400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7E0E2-FD0A-44F1-997A-E9B60847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1476B-1D14-4C53-8E3D-9ABC1408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55D4C-001B-4BCD-BE51-7F7C03C8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EA17D-2A5C-42E5-BFBF-DF9D1567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BFF3C-D82D-4CE4-8FB3-00EA1900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8C59D-A48C-4215-B873-E10B70CE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AAFDE0-F4AF-4F03-A5DE-88013717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D54F4-8BFF-4464-9DA8-22CE8AE8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D929E-9C08-4A25-860F-6377E9BA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79E6-4BA5-4519-A162-7F2B564C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6D4D6-E92C-4245-9C34-710DDD5E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B96B92-44DF-4843-8A1C-3538B59C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619548-5CB4-4141-BD07-C0346871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1E16B-5600-4E34-810E-15D80FAC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D50C9B-F426-4E95-A46E-255D89E4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FD65E-D90A-438C-A70E-65560480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451B0D-8B21-4D53-89F2-7E776FC8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B0005C-49DA-43EE-9CDC-A081FA43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3BA1DD-3F32-4E32-864F-91257B66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E0DE67-FF6C-4508-B5C9-47E8B436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B99D-EDEE-4871-AA97-7C250573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B3524-FD66-4622-B0BA-D5A60E5A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5E3A03-3522-41FA-997B-766B892F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5D55CE-3B1C-40F0-8EC9-BD110B0E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AB3C29-6CB5-4D79-9C1D-46EC1647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4C48DA-03D9-4196-AB99-5875603F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CD4BD1-08D0-45CF-9D0B-1748695B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A9B595-61ED-4439-8EB6-B68432AC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68F69B-BA7D-4B0D-BF14-C0E23BF0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87596D-1DDE-44CB-AE8A-6709401A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04787A-833F-4108-ABA6-34FEF176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6658-D468-4DDF-9063-7125B529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41C3F1-B921-4126-8B7D-5D056180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EAD265-2473-42BD-AF2C-5F7BCD42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591DBF-29EF-4D3B-A02C-BA9DF0FB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562DAF-1EE2-4E26-93CB-C2FBC021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129950-A645-488D-93C7-D15B55CF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806619-F5D4-4A8F-AD87-7F934F99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7723C8-6C58-40F2-B152-BE992DED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0BD96A-B1D1-422E-932F-1420AF6D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27767D-FA30-44D4-BFBF-C75673AF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136D54-5E04-43DA-8295-5D73D3E1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3271-3E41-458D-A781-5F332DA7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9591DE-E36F-4BD1-84C9-777C44B5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6B9AA8-153A-430D-B4EA-0DB5AFB6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E3D31E-2F53-4DB0-9534-68605B43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7AC138-80CB-4DDB-9CAF-BE4C628F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475ED0-3DE0-4882-A21A-B0C0EF22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612E14-15FF-42F8-AAEC-9E28C0BA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992080-F453-4EAE-9FE1-3D4AD831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135FBB-BD1B-4E75-BA44-7C44AAD0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757A9A-ECDC-4E25-9C50-8659ECCB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310D23-C17C-4693-943D-35890200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014A-03AB-47CC-85D6-AC44CD94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AA412C-0CC7-4E41-86CF-4D33C2E2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63DBFD-A8A3-4456-8741-5E483983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BDCCCA-3CDD-4610-A722-D0E1E607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65263A-D682-41AC-A2D1-53B142E4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7261AC-9A40-458B-9F2C-E3B7AD8F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34319E-295B-4795-B796-C1E51034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25577A-48A9-4715-9B57-D3205167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0C68E8-48CC-42A0-B1B1-FF2ED4DC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CEBDE3-8321-4356-B70E-4873C4EF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3ACDCF-FA24-4B63-B753-132DEF65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45F3-8F37-4BA1-A593-1B70A43E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8B97-750F-4F58-9023-BB6AD98D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9472D2-A826-4B66-B96F-C3919705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32471E-EA8F-4C61-B944-03BF2444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0415B8-D122-44BB-A82C-53E69C48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A47E2E-AFE0-4F09-8444-C68A7FDD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01341B-4ABA-4018-86FE-E6089A15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26088D-E8F6-4EF0-B268-CE306648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66DB37-CAB7-4516-821F-6F33AA20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BF112F-7061-4F94-8F1A-F6D814AE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D088A0-B7D2-49BB-A474-D6E03155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205A08-E95E-47ED-82F4-165AA83A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B6CB-13FE-4A6F-AB1E-5FD94B58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08ACA2-DDDF-4C25-9DD3-6469C6D1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A8D3C8-72E5-47F9-8CE7-3468BAF0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1A5E15-159B-4BD6-8D03-B4957679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24F374-B038-424B-803C-9CF23B95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951FAC-A0D1-4890-A613-26DA4CD6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BCB938-B6E3-4C10-A906-0D685260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BD0B3A-16ED-483F-8539-C5A30A06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DE612A-E955-4953-BE40-43D7FD7B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824325-2F79-4C1D-AC73-F1D09642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ACE17E-C628-4C21-A645-0AE33E83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E3BF-4B68-470C-A78A-C72D09D2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266185-8F74-40FD-94DD-224A23A2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F01B1C-31EE-43AD-AC1B-21603F45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357B94-AD38-45DB-B9D3-FC99027D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581BF4-74F4-4783-9AC3-1CA5E00D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6B68F4-B00D-4290-9822-9E1A886D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BE13D7-5F63-4D79-8ADE-E2631711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1466AC-3F54-407C-AE85-5C362176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1939C0-FAF5-4E5D-918F-AA3D4C50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6772F5-FECF-4FE2-8079-31955D2F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7D3C57-818F-4F68-89E4-786EBFEF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CF32-CA73-4CC8-AC69-F693EBB1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C77380-E87A-457D-BF6D-F25BCF8C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509730-EA4E-4050-98E6-DC1E47CB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8B1483-6623-455A-B963-30EEDFBB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AADB51-8187-4ED8-A672-F3E937B5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68F18C-1D81-4E51-9388-23258447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860CB5-07D1-4E8D-A987-78D6DC50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718BBE-E1B8-4AE0-BB84-AAF258A3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5EEFA1-E157-49DA-A06F-44F3B84F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30E9D9-7E9E-43B8-8369-64126817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BF6258-D873-47D3-935D-4ED060BF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1FBD-A926-4CB8-AD0B-D1682145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9E36C9-8447-4F92-94C2-7A80A6BF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FC22AF-1059-45C3-8AB3-2BFF78F7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239319-52D2-4A9A-BF4E-F5C747F9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D02D59-B01B-4CEE-86CB-E150CA73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4FB399-D009-41DD-9F81-70961E31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591C45-2C37-4CA5-A19F-9E798EF2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62AA6B-6192-4F2B-8BC8-103C3550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63160E-2832-4F21-AE72-D59809C6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A352A0-05AC-4CE1-A8D7-ADD82843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27A83E-D675-4BAF-83E1-AE09CF69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1D109-A554-4C09-8C12-6B204524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9503A6-7E35-4363-9219-E1D12245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DCDDA5-2DF8-4F14-9BEB-9A7864F0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E27451-141F-4208-8E69-C1C706BF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C22042-5049-4C15-8846-5FF479D0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EB1775-8A92-4741-A315-CEDF3034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59F9E9-4067-4792-8037-1B5334B7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6001AC-A76C-4FAE-ACD2-D46CE43B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22A355-F234-4C6B-8378-100F60E2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6A4EAB-24A1-40BE-87D8-D3BD7847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4E2553-2EF2-497A-8A9A-80599F1C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29011-B637-4E14-8924-CDE244C2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2882B9-0A76-4596-9B5A-2EB3D2CB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23416C-C5E3-43F7-BF1A-48E2055C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D7BEC4-90C9-49BC-8674-A543F30B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DE154D-3C52-4D3D-851E-1404A3D3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0C9CE1-F25A-4D06-B508-8A9B2461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2F8EC5-58B1-44CD-9A2D-2DA0FC01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43A497-2DFA-4888-8286-ACFC4236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27F13E-8380-42CA-8B4E-F0F11AC0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9F3BEF-28EA-4D92-938A-E99E1E80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37D42E-BD80-473B-83FA-BCE95DF5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A1BBA-3C7A-4A00-8FBE-C9B0BC72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02781E-87CE-4338-A549-10163EFC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386D7C-A7D7-4A02-92FB-FBFB13E1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3944E7-E604-47E2-8F73-7DCE9365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5D9C0B-6599-4038-A457-931E8D8E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2AFCDB-9EF9-4A08-BDD8-89A15411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283B49-93F5-437A-8EA1-E4E47B8D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28F955-4BEB-4B8E-AD53-737E94F6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775CE1-D8D1-4B81-A507-D69030F9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156C56-F449-4AA1-BF9D-F24A89FB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9ED963-6F66-4642-A467-13ADC1A8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E810A-2652-4F38-8855-997979AD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3762D3-5FAB-4F6B-87B1-C7C82C6F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4694D4-A6B0-457B-B485-D14547DA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DE34F8-AFAA-4505-A741-3620F843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4B3F13-556C-4A4F-9AA6-5F1B2A61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7B66DC-43A2-4CB5-824C-364CF617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C1468B-18CF-4305-B22B-69DC0F39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CEAAB3-186A-4E2C-A24B-7CA9F74E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6DD355-4CAC-45E3-BB28-1EDC0CFE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066140-8ED4-4B6A-BE13-98069322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8BDA41-3952-4462-8504-9A9A9F78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31231-527B-435E-87F4-283C1961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FA7D50-834D-4BE9-B04F-EA1BF1FD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292FC1-B18A-44F4-9F71-45CAC373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7D2CBA-7797-4D2D-8F56-7FEE05CA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1C94C2-E721-48BB-B93C-7FB91EBC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1770E1-85FC-4268-B72F-A435913D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995C4B-1D9C-4B35-B454-97CF98A8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5226FF-86A0-49FF-A5A0-C9CC7503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7549CB-25D4-4ACB-8847-C5246F80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78B8C7-131E-4325-90F2-3BAA51B7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AD69EF-986D-494C-A24D-1CE681AA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BBC-8518-40FD-B010-84671291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AE0B9-B56C-4F3F-8AAA-0FD1D39E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7519CA-7C3A-44B9-9174-89EB24A0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93D8D3-FC24-4FF3-9C70-B1834F74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C041AC-E5EC-4739-9FD2-605FEDC4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7918DA-34CE-4E59-BB3F-9EDF260B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345C25-0F6F-489C-A30B-D25E7BBD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5A5473-A1B5-4033-8ED5-19CAFE91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E69112-5E09-41AA-8405-8E86391E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B9E54C-EE38-47F1-AA89-6F14C2F0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692E2D-F3B6-423E-9590-EC1C6DE1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09B299-7B92-4E0C-BC77-12A6B36D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D2899-0100-49CD-8736-E38CACC4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E00129-AE45-4720-97DA-6B0C2714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DEC7FD-4E5C-4DC5-BDDE-3E45CF98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304636-4962-4802-A24C-817315C9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E0B29C-7B68-4A03-8435-28390ECB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3D5CA2-BA9A-4298-A7C9-733FA0EC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E2FED7-C043-429B-A3C8-6DE24824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60B858-D509-4BE9-A20D-0A4B8015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77517B-0333-4AEA-9EF2-F2A1BBFD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751D61-9192-461C-A8EB-64CFCE50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C00820-2C86-4CDE-8660-C2B26C4D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06AA6-3E46-47B3-847E-842D5E13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8E57EE-5210-42DF-B75B-DE1C7E8C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10A74F-60FB-48F9-B973-D21675A0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884C78-BFFC-481C-BBA1-F93F3E1E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B856BE-B52F-40CA-9BD8-AC9F8DA4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2AE06E-ABED-40FD-A9C3-4639E142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993907-B44D-4719-B514-A084B0EE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F0B90B-21E3-4C09-8E86-3A73781A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6023A3-AC42-4E04-A8F9-47057687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8590C8-A36F-4989-B763-6AE9DC26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F05F87-637A-40CC-B115-3D4CF21F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C67ED-8A4C-40F6-9FA2-C308EFB2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DBDBA0-294C-4AE4-B850-E39ABFEC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C5B17A-FFF7-4005-9201-5231D33B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380788-B2A6-4F96-818F-4931FFC2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1C24E5-8530-45DE-83A6-48A62899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39143B-BF07-449D-A250-64BF6689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8DEA0F-2E92-4C60-8579-B7CAC4EC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04E72C-704A-473F-BED5-C94570CB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FC7C51-77D4-44F2-84CD-D0F22FBD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B3F8AD-D930-4901-B0C7-CF74714E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6C158B-7AE8-487D-BE0B-696CBA0C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51146-46F0-44E6-9B3F-7AA5DFD1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EB6D27-AE10-483F-8539-C4FA0B6D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F4CA6F-51C3-4AD8-B67F-97A65CDC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66573F-53DB-49E1-B752-47A578D4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33EFAB-F5C4-4D9B-A450-1DF8448A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C32249-4D9F-4234-8BC4-BD64346F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CBE71C-14CA-4F67-A915-3717454B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72E9CB-73AD-4231-87F1-E79FFB6F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706341-A49C-4483-A953-9BC15CD2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60E8E2-2C8B-4FEC-BD0A-5B167578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408066-AD3C-4530-9E3F-FD0EB54F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8C787-F1EB-4D8E-90E8-7AACBBF7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3E3A45-6F80-49FC-A3EF-E003D265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D8D125-551E-4294-8BEC-2340A71E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948673-F1C4-4C7F-B04A-64E17DC9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B3D687-989A-43AF-B56D-508BB02A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3F382D-85E4-448D-9FF6-F3A8AEC3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13FD65-135C-4212-9503-49ADF0FD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9CD6BA-B164-4783-84EE-51CD1AD6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7B6FBA-AA9D-473D-8CC5-62AE4E30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6BFBBA-8974-48B0-93C0-2D92539A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5E71F0-B53B-47F9-9E75-05E4CD07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6455C-D539-496E-826A-FB196386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744CC0-10ED-4127-ACA1-6F2DA88E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A21A9D-6339-4FA5-9623-F79C976E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4DAE71-6649-46EA-9551-7672B88D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E404D1-7250-4776-A47E-51CB6404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0CB86C-E1F5-4C19-B2AF-463BBAEF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EDA55C-E0D8-4D28-9BC0-76B8EF5E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39D1E6-E4AD-4FD6-BC5A-0760E701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73F993-20C8-46E2-8431-D9FD757B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12F7D7-D893-42E2-B872-3B864CE0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86ACC1-1399-435C-9EF5-5EE52294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5630D-23A0-49AC-AC75-877D95D0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40EE86-E90E-426B-8F47-296DA925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D36432-4B9B-4062-8355-D043A45C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7A6381-027E-428F-9FFF-E5528BC4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27170-20B6-4BB9-A941-9D122FBF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BDEC6-317C-44AB-B67D-45C1D918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746D-B20E-4E7D-AA8B-AC92E6D8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1041E-8542-47BE-831A-0F227649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04E08-B7FB-46BA-AAED-0AF112E7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59DC0-5004-4A0A-97F1-B33DCB6D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6D16D-5073-4828-B900-F7F0B125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0C45F-0768-46A1-83A7-5A844DD4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C2D62-ACE2-4529-B7C7-47C13DA8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D8175-64CB-457E-9C84-B03AD7C0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3DF4F-190A-4AD4-92EF-23428FEA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FCBBC-EAAA-4F9C-B38E-CFFF3609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142DE-7FA1-4C37-AF3B-5C7133B6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81F7-A399-4CC5-8F7F-D9E6D9E8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C738B-02D0-49C5-A6EF-0F929658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653B0-7145-4D25-999E-8590EC20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ACB30-B717-49ED-A0CF-66647683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CDC63-B4F0-477E-9CDA-56486167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141A1-2FC2-4031-871E-5029B04A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EDDDD-B91A-4E0E-A0A9-7A68612B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C82C7-410B-48BA-A9F6-855900A1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40968-E83C-4D70-822D-BD750182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6E425-D730-4517-8C6C-6200C19B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61731-3F17-468C-ADD0-C3D99656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068D-C6B2-4F22-9C2B-965E1CF0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18357-CCAF-481D-A1A3-A606CB3D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48533-2D0D-41EB-A396-9CA1E2A6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F8BA4-919A-4E7C-8EAF-8AB4A50F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4605A-B4E8-45D7-BC7E-BA9C7C9C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0571F-8E9A-48F5-992D-DCF6D84C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8FC5E-6397-486B-B43F-D2749773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5E0BF-E516-44CD-9211-3B880963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37159-1E5E-41D4-9909-447D6AB4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0CC41-1BF3-49E8-B440-78645ED0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C3003-5DA1-4333-ACB1-FCA85CCE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E77-EF53-498F-9DFD-FFAFD362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DCB36-89E5-4CC6-A135-46FD0DD3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2B926-634F-4DB4-9F94-1EBE38D4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42DCE-3E31-48CA-A14B-E26ED3FB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01EA3-9E1D-478D-85BD-07F6E697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F9FDA-2093-4993-9777-0FE4F988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FB8E6-D8FA-4B70-B3B0-99669BA3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EC453-E74A-4129-853A-47572E0B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66D3F-5D02-4610-AB6A-0F13C52F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47F21-46E9-4F92-8362-E5C944C4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2A4DA-A638-4B3E-8E07-3FEC24BC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AF44-193D-4AF5-B7F0-5D5A5339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81151-C0CC-4975-A454-4F9CEBCF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B577B-3276-4614-A36C-9C1E6B86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81EFB-1358-4C46-8164-D4F86B3A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B9AF0-9967-4CAB-9985-32560764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04B41-B9D1-4860-8D4E-925D6F6C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269AE-0A91-41AE-8E58-F2EE5E15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67326-5CFF-4ACA-B0EB-3C345AC3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6374B-94F3-4618-B2E5-B58F56A4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6E6C5-7EE3-48BB-BA3A-9F1C445A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143EE-0C2F-401B-8486-9768AD79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8ABE-E18F-490B-B87F-79CFF1DA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3CBD0-EE87-4BBF-A71C-D5D8DC24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217BE-FB2E-4CFE-88CF-8833B837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AD554-7255-4F42-831B-29348AA2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0A772-660A-46A6-8579-1A564E63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DD62B-06E5-41DB-9BA3-A2787135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34080-4838-4FDB-8E32-84C2CF34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03FC4-7BBC-4DF6-ADAA-E5257F34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4F39B-8B1D-4235-8646-D73EDD0E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1741B-C2EC-4329-8D5A-B08F2E9C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13C4E-68EF-4796-BEFA-B4C3F2F9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46D5-0C9C-4636-9C48-C43C22D09A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BD63-3F4E-43E5-8649-462B7438FB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06A5-7F42-4C05-8F87-7A4AC4A1E3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7720-AAE1-4CC0-A90C-F65100342F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0B4A-F8F6-4136-9000-2943EB073B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3094-58CD-4A9C-93DA-28D977A704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FE72-0B26-4858-BF61-EB355B6BC8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C0E7-2BB7-4972-B33B-6A8C51F377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BA30-1302-46A0-9A53-F7028B58AF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AD83-B258-4162-B4CE-64FE1189BA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32AA-8C07-48AC-B0F8-15EC9AD744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C717-2ADB-44E4-B3CD-1FFB7F896C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170C-4B9B-462F-95FF-B8E3441205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1D9D-28D8-421C-9155-E1F27B45F2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75A4-B7FC-4551-9E93-6E3C590367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1F91-A904-4E21-9D5C-B11E9E0B30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978D-5D55-4E22-B936-FCA14260E2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F52C-98CF-4A80-92EF-40B4690A3D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81F1-4452-475A-A10F-DABDFF9DF6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3699-0669-475F-B569-D9A3A7C6E0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83C5-3E8C-485F-B52E-D85BDDE08A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3764-9F31-4802-8FF4-5F61CC992C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39F4-4B5B-4CFC-A326-F22B3C09B5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D8D2-C22D-4B39-9FFB-C5B4CAD9A0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FBCD-AE90-48EE-A517-244F652F38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1817-C766-4EC0-8504-1F1CAB446E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ACC1-BDEF-4C46-BCF2-AC01329E3C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8599-4D67-4E66-A322-6C4B44FBE6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7AC7-F295-42E4-93A6-BA04D73717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7A52-D88B-408A-B753-2D7720E08D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B826-FF22-46D3-AE1C-5B71FED7DF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01BC-1F7D-4A26-B479-8AD88542DB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DF86-E851-489D-B550-0FDDB4AA1F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44EC-86AA-4B51-85B3-DB2A1962D6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C961-C105-4A1D-92B9-EA18869835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E2DD-BE5A-4E65-BB0B-11DE9343C7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0E1B-24D5-4FF9-AF54-BEA9FBFA3C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6B62-6028-4382-B9D0-92679FFD28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935F-5D5F-475B-8919-6843B1A60F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EE64-F2C1-481E-A43A-F3D676145A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088C-1D48-47A7-89DE-4BF1D5EC09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4B1A-1A81-4119-8B5D-3E4B85ADD6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501E-8FB6-453D-AD7E-D44C72C2CE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2F45-834D-4772-846A-E5AB096EF5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F933-3E50-4030-BFBE-9EB5E47CFF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F6FE-1804-4B44-9C4C-665C30CEE2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A8B2-64B8-4FA6-BF32-5671A99DA5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AE6C-56A4-4AB7-8793-852D2DB77D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4C04-3965-4BB7-B9C8-707F0A5C8B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85CC-680E-426E-B429-3CA7AD4833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534200" cy="109548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2195640" y="2637000"/>
            <a:ext cx="4809960" cy="79992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8086680" cy="704880"/>
          </a:xfrm>
          <a:prstGeom prst="rect">
            <a:avLst/>
          </a:prstGeom>
          <a:ln w="0">
            <a:noFill/>
          </a:ln>
        </p:spPr>
      </p:pic>
      <p:pic>
        <p:nvPicPr>
          <p:cNvPr id="1435" name="图片 28684" descr=""/>
          <p:cNvPicPr/>
          <p:nvPr/>
        </p:nvPicPr>
        <p:blipFill>
          <a:blip r:embed="rId4"/>
          <a:stretch/>
        </p:blipFill>
        <p:spPr>
          <a:xfrm>
            <a:off x="2185920" y="4484520"/>
            <a:ext cx="471492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116737" descr=""/>
          <p:cNvPicPr/>
          <p:nvPr/>
        </p:nvPicPr>
        <p:blipFill>
          <a:blip r:embed="rId1"/>
          <a:stretch/>
        </p:blipFill>
        <p:spPr>
          <a:xfrm>
            <a:off x="762120" y="1704960"/>
            <a:ext cx="7619760" cy="3448080"/>
          </a:xfrm>
          <a:prstGeom prst="rect">
            <a:avLst/>
          </a:prstGeom>
          <a:ln w="0">
            <a:noFill/>
          </a:ln>
        </p:spPr>
      </p:pic>
      <p:sp>
        <p:nvSpPr>
          <p:cNvPr id="1463" name="矩形 116738"/>
          <p:cNvSpPr/>
          <p:nvPr/>
        </p:nvSpPr>
        <p:spPr>
          <a:xfrm>
            <a:off x="3835440" y="2560680"/>
            <a:ext cx="736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6739"/>
          <p:cNvSpPr/>
          <p:nvPr/>
        </p:nvSpPr>
        <p:spPr>
          <a:xfrm>
            <a:off x="6730920" y="2998800"/>
            <a:ext cx="16574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6740"/>
          <p:cNvSpPr/>
          <p:nvPr/>
        </p:nvSpPr>
        <p:spPr>
          <a:xfrm>
            <a:off x="1292400" y="3456000"/>
            <a:ext cx="716724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6741"/>
          <p:cNvSpPr/>
          <p:nvPr/>
        </p:nvSpPr>
        <p:spPr>
          <a:xfrm>
            <a:off x="1282680" y="3875040"/>
            <a:ext cx="26416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6742"/>
          <p:cNvSpPr/>
          <p:nvPr/>
        </p:nvSpPr>
        <p:spPr>
          <a:xfrm>
            <a:off x="6292800" y="4294080"/>
            <a:ext cx="26416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16743"/>
          <p:cNvSpPr/>
          <p:nvPr/>
        </p:nvSpPr>
        <p:spPr>
          <a:xfrm>
            <a:off x="1339920" y="4703760"/>
            <a:ext cx="553716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图片 124929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020080" cy="4172040"/>
          </a:xfrm>
          <a:prstGeom prst="rect">
            <a:avLst/>
          </a:prstGeom>
          <a:ln w="0">
            <a:noFill/>
          </a:ln>
        </p:spPr>
      </p:pic>
      <p:sp>
        <p:nvSpPr>
          <p:cNvPr id="1437" name="矩形 124930"/>
          <p:cNvSpPr/>
          <p:nvPr/>
        </p:nvSpPr>
        <p:spPr>
          <a:xfrm>
            <a:off x="4788000" y="3500280"/>
            <a:ext cx="7650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1"/>
          <p:cNvSpPr/>
          <p:nvPr/>
        </p:nvSpPr>
        <p:spPr>
          <a:xfrm>
            <a:off x="2901960" y="3929040"/>
            <a:ext cx="7650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2"/>
          <p:cNvSpPr/>
          <p:nvPr/>
        </p:nvSpPr>
        <p:spPr>
          <a:xfrm>
            <a:off x="6959520" y="3510000"/>
            <a:ext cx="1357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3"/>
          <p:cNvSpPr/>
          <p:nvPr/>
        </p:nvSpPr>
        <p:spPr>
          <a:xfrm>
            <a:off x="5796000" y="3933720"/>
            <a:ext cx="5936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4"/>
          <p:cNvSpPr/>
          <p:nvPr/>
        </p:nvSpPr>
        <p:spPr>
          <a:xfrm>
            <a:off x="3851280" y="4778280"/>
            <a:ext cx="223344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123905" descr=""/>
          <p:cNvPicPr/>
          <p:nvPr/>
        </p:nvPicPr>
        <p:blipFill>
          <a:blip r:embed="rId1"/>
          <a:stretch/>
        </p:blipFill>
        <p:spPr>
          <a:xfrm>
            <a:off x="733320" y="1428840"/>
            <a:ext cx="7677360" cy="4000320"/>
          </a:xfrm>
          <a:prstGeom prst="rect">
            <a:avLst/>
          </a:prstGeom>
          <a:ln w="0">
            <a:noFill/>
          </a:ln>
        </p:spPr>
      </p:pic>
      <p:sp>
        <p:nvSpPr>
          <p:cNvPr id="1443" name="矩形 123907"/>
          <p:cNvSpPr/>
          <p:nvPr/>
        </p:nvSpPr>
        <p:spPr>
          <a:xfrm>
            <a:off x="6972480" y="1514520"/>
            <a:ext cx="11286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3908"/>
          <p:cNvSpPr/>
          <p:nvPr/>
        </p:nvSpPr>
        <p:spPr>
          <a:xfrm>
            <a:off x="2914560" y="2352600"/>
            <a:ext cx="11289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22881" descr=""/>
          <p:cNvPicPr/>
          <p:nvPr/>
        </p:nvPicPr>
        <p:blipFill>
          <a:blip r:embed="rId1"/>
          <a:stretch/>
        </p:blipFill>
        <p:spPr>
          <a:xfrm>
            <a:off x="528480" y="1143000"/>
            <a:ext cx="8087040" cy="4572000"/>
          </a:xfrm>
          <a:prstGeom prst="rect">
            <a:avLst/>
          </a:prstGeom>
          <a:ln w="0">
            <a:noFill/>
          </a:ln>
        </p:spPr>
      </p:pic>
      <p:sp>
        <p:nvSpPr>
          <p:cNvPr id="1446" name="矩形 122882"/>
          <p:cNvSpPr/>
          <p:nvPr/>
        </p:nvSpPr>
        <p:spPr>
          <a:xfrm>
            <a:off x="7772400" y="3152880"/>
            <a:ext cx="5763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2883"/>
          <p:cNvSpPr/>
          <p:nvPr/>
        </p:nvSpPr>
        <p:spPr>
          <a:xfrm>
            <a:off x="7740720" y="4437000"/>
            <a:ext cx="5763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21857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991640" cy="914400"/>
          </a:xfrm>
          <a:prstGeom prst="rect">
            <a:avLst/>
          </a:prstGeom>
          <a:ln w="0">
            <a:noFill/>
          </a:ln>
        </p:spPr>
      </p:pic>
      <p:pic>
        <p:nvPicPr>
          <p:cNvPr id="1449" name="图片 121858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6591240" cy="1685880"/>
          </a:xfrm>
          <a:prstGeom prst="rect">
            <a:avLst/>
          </a:prstGeom>
          <a:ln w="0">
            <a:noFill/>
          </a:ln>
        </p:spPr>
      </p:pic>
      <p:sp>
        <p:nvSpPr>
          <p:cNvPr id="1450" name="矩形 121860"/>
          <p:cNvSpPr/>
          <p:nvPr/>
        </p:nvSpPr>
        <p:spPr>
          <a:xfrm>
            <a:off x="7740720" y="1989000"/>
            <a:ext cx="5763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120833" descr=""/>
          <p:cNvPicPr/>
          <p:nvPr/>
        </p:nvPicPr>
        <p:blipFill>
          <a:blip r:embed="rId1"/>
          <a:stretch/>
        </p:blipFill>
        <p:spPr>
          <a:xfrm>
            <a:off x="552600" y="1033560"/>
            <a:ext cx="8038800" cy="4790880"/>
          </a:xfrm>
          <a:prstGeom prst="rect">
            <a:avLst/>
          </a:prstGeom>
          <a:ln w="0">
            <a:noFill/>
          </a:ln>
        </p:spPr>
      </p:pic>
      <p:sp>
        <p:nvSpPr>
          <p:cNvPr id="1452" name="矩形 120834"/>
          <p:cNvSpPr/>
          <p:nvPr/>
        </p:nvSpPr>
        <p:spPr>
          <a:xfrm>
            <a:off x="7740720" y="2492280"/>
            <a:ext cx="5763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0835"/>
          <p:cNvSpPr/>
          <p:nvPr/>
        </p:nvSpPr>
        <p:spPr>
          <a:xfrm>
            <a:off x="7664400" y="4616280"/>
            <a:ext cx="5763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119809" descr=""/>
          <p:cNvPicPr/>
          <p:nvPr/>
        </p:nvPicPr>
        <p:blipFill>
          <a:blip r:embed="rId1"/>
          <a:stretch/>
        </p:blipFill>
        <p:spPr>
          <a:xfrm>
            <a:off x="571680" y="1752480"/>
            <a:ext cx="80010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8785" descr=""/>
          <p:cNvPicPr/>
          <p:nvPr/>
        </p:nvPicPr>
        <p:blipFill>
          <a:blip r:embed="rId1"/>
          <a:stretch/>
        </p:blipFill>
        <p:spPr>
          <a:xfrm>
            <a:off x="771480" y="1557360"/>
            <a:ext cx="7601040" cy="374328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8786"/>
          <p:cNvSpPr/>
          <p:nvPr/>
        </p:nvSpPr>
        <p:spPr>
          <a:xfrm>
            <a:off x="4397400" y="1560600"/>
            <a:ext cx="39196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18787"/>
          <p:cNvSpPr/>
          <p:nvPr/>
        </p:nvSpPr>
        <p:spPr>
          <a:xfrm>
            <a:off x="1273320" y="1989000"/>
            <a:ext cx="23619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18788"/>
          <p:cNvSpPr/>
          <p:nvPr/>
        </p:nvSpPr>
        <p:spPr>
          <a:xfrm>
            <a:off x="1187280" y="2446200"/>
            <a:ext cx="1479600" cy="3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18789"/>
          <p:cNvSpPr/>
          <p:nvPr/>
        </p:nvSpPr>
        <p:spPr>
          <a:xfrm>
            <a:off x="3997440" y="4532400"/>
            <a:ext cx="7189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18790"/>
          <p:cNvSpPr/>
          <p:nvPr/>
        </p:nvSpPr>
        <p:spPr>
          <a:xfrm>
            <a:off x="7236000" y="4532400"/>
            <a:ext cx="7189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17762" descr=""/>
          <p:cNvPicPr/>
          <p:nvPr/>
        </p:nvPicPr>
        <p:blipFill>
          <a:blip r:embed="rId1"/>
          <a:stretch/>
        </p:blipFill>
        <p:spPr>
          <a:xfrm>
            <a:off x="571680" y="1857240"/>
            <a:ext cx="80010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7:49:56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